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BFBA-DED3-479B-9DEB-DC4684F7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1D2E-9E52-45DE-9CC1-5783B6F2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C36-10D4-46E9-BE5A-F9784817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DCC-78F0-4375-92B3-FCF7A70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BB8-7C5D-4D3C-B984-4C1D5548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82F-E53F-47F4-AF88-85D16740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090-89E5-4938-B98B-851EAB9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85D-C45A-4341-8003-C4E34E5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02B-D5F1-46A3-9A32-7E73BD1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DF8-1B64-40C5-B18E-1A3134B2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852-8336-424D-9E9C-13854100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113-5335-433B-8C78-81F1D16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769-2EE4-41CE-A973-07CD2C67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8E0-F83A-4C0A-8E33-3EEFCC0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659-2855-44E6-84F0-E04DA3E3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1:25Z</dcterms:modified>
  <cp:revision>99</cp:revision>
  <dc:subject/>
  <dc:title>Profile</dc:title>
</cp:coreProperties>
</file>